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29D-DD5F-41EF-8620-F91C01D2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FDD-E160-48FD-9A77-500D25B4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B94-A90D-4EF4-8C26-648DEB8A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1BE-26EE-4347-9497-B1A81B1C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796-209B-422E-A640-2C122CD7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185-2A17-43F5-8878-B03F6D9F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E22-59AA-4841-AA9D-0DB49525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FD2-8C6C-4772-BB76-39D4A1EA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99D-EB0F-4009-B7C5-1F3B54A1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D58-3644-4307-B287-AF74C28A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C75-DACE-4F19-9D0A-4AE91B3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6A0-9725-4867-B46A-CEB0366B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4E8B-195E-4E3B-AF34-D5F98C0C4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ng the effectiveness of data security measu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, reliability and timeliness in terms of storage, communication and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, eg. storage, it contains all data; communication, arrives accurately, no viruses; disposal, selected files deleted or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physical &amp; software security, eg. audit tr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ng the effectiveness of data security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nce of folder &amp; file-naming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ed up files need to be able to be re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cy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sequential file-naming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ng the effectiveness of data security management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7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a risk manage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an get access to physical environment &amp;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virus software, is it being upd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s, changed &amp; check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ations require policies to define how an information system should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s: subject heading &amp; message priority; signature of person sending it; privacy disclaimer at end of email; use of appropriate language; attachments sent in appropriat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le-naming conven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lude datestamp, eg. newsletter 2006-11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ariation, newsletter 2006-11 v3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quential file-naming convention, newsletter 2006-11 03oct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me, meaning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 of a directo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backup, 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backup, files that have changed since last full backup, uses only 2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backup, files changed since the last incremental 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ation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name o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parent-parent-chil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backup each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backup at end of each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backup end of each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ack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proof &amp; waterproof 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location, eg. another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-site backup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ba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ing/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on same type of media as bac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in simila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required for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cument with steps needed to restore company operations in event of a dis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key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&amp; contact details of people to no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to follow with computer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on procedures for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ck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alternative sites &amp;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backup data, supplies, eq/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onnel responsible for gathering backup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chedule indicating order &amp; approximate time applications up and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hardware &amp; software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mission critical IC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a backup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of variety of disasters &amp; recover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3:26:59Z</dcterms:created>
  <dc:creator>Kelvin Baird</dc:creator>
  <dc:description/>
  <dc:language>en-US</dc:language>
  <cp:lastModifiedBy>Kelvin Baird</cp:lastModifiedBy>
  <dcterms:modified xsi:type="dcterms:W3CDTF">2007-07-11T04:37:47Z</dcterms:modified>
  <cp:revision>4</cp:revision>
  <dc:subject/>
  <dc:title>Security, Security Procedures</dc:title>
</cp:coreProperties>
</file>